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FB2-C1DB-43EC-BBB8-4E6DC7F2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ABB-B471-422C-A7F4-5E604D7E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6B1-3BC8-4F19-B609-25779D6D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808-ED55-4AB8-8A0C-C9271E45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43A9-A1BF-4D7C-8464-45A6F3CB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E461-AA9D-4AB5-83AB-B9A9681E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FA00-330E-4B4E-8A78-6B38AE40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C6BC-0CFE-4059-BA4E-1292A92D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3627-8B11-47D0-BD1E-141B47B8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C785-8E20-4B10-85E3-B03CEE28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3A93-510A-4132-8706-7E67CC8D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02C-6A91-48E5-ACCB-7C57B1C7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02C1-12C0-4791-97A3-7B38F70F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F83C-5965-4F83-A2EC-B09EDF98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E1BF-426D-4B89-A6F1-B1A6B5BB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9809-44B5-432A-8032-6A9C8DEF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F309-35F3-4E95-8A6B-442F6156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CC3-3BF2-4174-8125-1E89605D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3CF-21C4-4BF0-8810-DDDA55F6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68B-3DD7-4D7F-BEC6-AD9DC0D1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D88-2935-437F-86E6-F27C0DCD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C14-E3FE-4E72-86EA-6913D0F5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6E9-6E1C-445F-9DC7-6F11FA76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D86-1E47-4CA0-B7D9-FBB3E68D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EC55-8659-4419-8375-A3875CADA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F260-7A5C-444C-9D55-EEA243A6F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DI 2008 Topic Lectur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Economics: Fossil Fuels and Alternative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Kathryn Cl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1887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lobal Oil P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36920" y="1981080"/>
            <a:ext cx="5043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pply and Dema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93760" y="1981080"/>
            <a:ext cx="593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pply and Dema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9360" y="1981080"/>
            <a:ext cx="433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elastic and Elastic Dema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36640" y="1981080"/>
            <a:ext cx="664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rket Failu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73240" y="2527200"/>
            <a:ext cx="77724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terna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790720" y="1981080"/>
            <a:ext cx="4535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 Energy Consumpt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440" y="1981080"/>
            <a:ext cx="653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 Energy Policy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49600" y="1981080"/>
            <a:ext cx="661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lobal Energy Consumpt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05000" y="1981080"/>
            <a:ext cx="390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rbon Content of Fossil Fue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4880" y="1981080"/>
            <a:ext cx="402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uture Energy Projec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0204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sumption by Sect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1981080"/>
            <a:ext cx="4143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lobal Fossil Fuel P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60560" y="1981080"/>
            <a:ext cx="619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lobal Coal P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73240" y="2104920"/>
            <a:ext cx="77724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8:26:09Z</dcterms:created>
  <dc:creator>Kathryn Clark</dc:creator>
  <dc:description/>
  <dc:language>en-US</dc:language>
  <cp:lastModifiedBy>Kathryn Clark</cp:lastModifiedBy>
  <dcterms:modified xsi:type="dcterms:W3CDTF">2008-07-15T01:18:10Z</dcterms:modified>
  <cp:revision>8</cp:revision>
  <dc:subject/>
  <dc:title>Topic Lecture 1</dc:title>
</cp:coreProperties>
</file>